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69E-7850-4DC4-8D40-AB737021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A28-3307-4E4D-924A-78E6C816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630-A816-4A8B-9348-5DFA3C96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558-A980-4DF4-B257-55EA456A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A34-7EC9-4167-9165-1AF56BA9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10E-1C2B-427C-92E6-32B5C64A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565-A8DA-4012-ABFC-B5C38EE4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A3C-C543-49E6-A6D0-695154DE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494-300D-4B2E-99C8-FE549F1F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391-FC18-424B-B4AC-7D8DAF3D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93D-3F70-4A42-BB65-7A7BFBB1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414-C7EE-43F4-ABEF-5F35BDFC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4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1DC8C-8C27-4349-8540-7363F06A35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3867B-3C1C-4889-8CAD-E752B5C60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Metho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Social Syste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an DiMic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BM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enter for Social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from her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your question to answ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you measure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measure it by prox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the data or do you need to collec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log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BM’s Center for Social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504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bridge, 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IBM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prise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visu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manage the Visual Communication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502240" y="1600200"/>
            <a:ext cx="2862360" cy="15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5502240" y="3556080"/>
            <a:ext cx="28558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build social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success of these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challenge as researcher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fying essentially qualitative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 of 5 different analysis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Software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951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built a social network site for IBM employ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get people to join and then continue to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utation, skills, your mer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ing / sha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e systems (e.g. points) and honorable ro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beehive-logo.png"/>
          <p:cNvPicPr/>
          <p:nvPr/>
        </p:nvPicPr>
        <p:blipFill>
          <a:blip r:embed="rId1"/>
          <a:stretch/>
        </p:blipFill>
        <p:spPr>
          <a:xfrm>
            <a:off x="177840" y="1600200"/>
            <a:ext cx="27176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oad summaries from interview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ed of us: What is the ROI on social networ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sked: Why are people using our SNS si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d subject interviews on this question (~20 pp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ded each interview statement based on the type of mo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s emerged: 1. social/personal connecting, 2. career climbing, and 3. spreading marketing message of pe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looked content on site for alignment with these t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314880" y="5549760"/>
            <a:ext cx="59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M DiMicco, DR Millen, W Geyer, C Dugan, B Brownholtz, M Muller. (2008) “Motivations for Social Networking at Work.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oceedings of the ACM Conference on Computer Supported Cooperative Work (CSCW 2008). `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beehive-logo.png"/>
          <p:cNvPicPr/>
          <p:nvPr/>
        </p:nvPicPr>
        <p:blipFill>
          <a:blip r:embed="rId1"/>
          <a:stretch/>
        </p:blipFill>
        <p:spPr>
          <a:xfrm>
            <a:off x="0" y="38160"/>
            <a:ext cx="1168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surveys to measure su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stion: What impact does our SNS have on IBM? (similar to ROI questio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used “social capital” as a concept to measure how employees have more access to information and expert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rough existing survey instruments, we measured social capital of employe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d on their reported behavior on the SNS, we correlated (regression analysis) behavior on site with greater social capita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213000" y="553716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Steinfeld, JM DiMicco, N Ellison, C Lampe. (2009) “Bowling Online: Social Networking and Social Capital within the Organiz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urth International Conference on Communities and Technologies (C&amp;T 200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beehive-logo.png"/>
          <p:cNvPicPr/>
          <p:nvPr/>
        </p:nvPicPr>
        <p:blipFill>
          <a:blip r:embed="rId1"/>
          <a:stretch/>
        </p:blipFill>
        <p:spPr>
          <a:xfrm>
            <a:off x="0" y="38160"/>
            <a:ext cx="1168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ing an 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eployed as new feature on the SNS (rewarding points for content). How do we measure impac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the deployment: only half of people saw the fe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d the two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y instrumented the system to observ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3429000" y="552456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Farzan, JM DiMicco, DR Millen, B Brownholtz, W Geyer, C Dugan. (2008) “Results from Deploying a Participation Incentive Mechanism within the Enterprise.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oceedings of CHI 20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5207040"/>
          <a:ext cx="1994040" cy="160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207040"/>
                    <a:ext cx="19940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a survey to gather ground tru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es your behavior on the SNS reflect your feelings about the peopl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esigned a survey “game” asking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Helvetica Neue Light"/>
              </a:rPr>
              <a:t>“How strong is your relationship with these people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Helvetica Neue Light"/>
              </a:rPr>
              <a:t>Used this ground truth to compare with behavior on si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Helvetica Neue Light"/>
              </a:rPr>
              <a:t>Regression analysis demonstrated correlations between closeness and certain behavi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3174840" y="5664240"/>
            <a:ext cx="596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u, JM DiMicco, DR Millen. (2010) “Detecting Professional versus Personal Closeness Using an Enterprise Social Network Site.”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Proceedings of CHI 201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3631" t="23010" r="44087" b="0"/>
          <a:stretch/>
        </p:blipFill>
        <p:spPr>
          <a:xfrm>
            <a:off x="152280" y="5143680"/>
            <a:ext cx="1603440" cy="163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interviews to infor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titative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ebsite for viewing legislation: how are people using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s of which features were used and how long each user sta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d few power users, many casual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ed 6 power users to answer our questions raised during our log analysis of “why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174840" y="5664240"/>
            <a:ext cx="596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u, JM DiMicco, DR Millen. (2010) “Detecting Professional versus Personal Closeness Using an Enterprise Social Network Site.”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Proceedings of CHI 201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2000" y="5187960"/>
            <a:ext cx="1679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2:23:02Z</dcterms:created>
  <dc:creator>Joan DiMicco</dc:creator>
  <dc:description/>
  <dc:language>en-US</dc:language>
  <cp:lastModifiedBy>Joan DiMicco</cp:lastModifiedBy>
  <dcterms:modified xsi:type="dcterms:W3CDTF">2011-04-04T18:03:11Z</dcterms:modified>
  <cp:revision>8</cp:revision>
  <dc:subject/>
  <dc:title>Evaluation Methods  for Social Systems </dc:title>
</cp:coreProperties>
</file>